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7CDC-813A-464F-9325-6B0156B8B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F93-7A85-4B46-A822-85EBB6351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ABE0-E90E-4907-8978-683A8F8D6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8C3-0F30-4EC6-A5D6-930572AB6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976-D1D1-4649-92FB-38374F2BC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B87-6933-4CC4-BD54-41A0A7F13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0A3C-AE9C-468A-915D-4FE764D9E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81CD-CC43-44E1-BBEA-CACE4E4C2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F2B9-9CB5-40D5-A8E9-6FD92C28C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4C9-7118-443E-BAF3-19EA502F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F8B-6F79-40B3-9A08-C72C2F7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F36-33B1-433E-94AF-F2CBF1D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237-57E0-4A58-AC80-C1D416D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CB05-F7F8-4DD6-94AB-C6CC5EAB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66C-533A-4731-B0BE-85186C9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97FA-ED2D-4275-A909-D950139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07A4-2825-49EE-B4DB-0DD3DCE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ED0D-D4E6-4788-9247-CF23A08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0EEC-940C-4F74-AA5B-29DE6EB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5AC-BED1-418C-A9EF-5FC859D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CBE-BF77-458A-8EB8-1742841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90C3-0F7E-4710-A10A-F14AEDE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0D5-0709-4C48-80D1-48B183D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EB3B-8503-4C79-93BD-9B677677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7F26-F0AA-4783-BB00-60994147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590-511A-46B1-887A-0132976C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38E9-079B-4C8A-8CA1-FF3B80A7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8460-5499-4881-AF28-2F92A658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97C5-5CE1-4A31-924A-1A4211B4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C062-D45D-4015-A02A-4CAEC24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AD7D-D2DA-4660-A749-89F779E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4F6-4AA9-4328-BDD1-E74C42B9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641E-69A2-49E6-A75D-CF756F8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B851-36BA-4E8A-B646-42FEA3B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FA57-EB61-4C50-A2A5-BCE609B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01DB-D060-448A-9850-67A97CB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0117-B728-4C54-A513-A3530BE5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7CD8-17E0-4EB9-9923-6A1153FA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2E2C-5173-4C3A-87E2-0CA3B2F3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B24F-A14A-41C3-899F-E249915A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A025-937E-49EC-9506-B9C33DF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0130-9187-42F7-8724-F719E40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729-ED02-405D-9A55-3CA75AF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1851-6410-49BD-9041-4210A43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94A0-CEAD-42B7-81CE-B72D115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FC6F-9878-4B99-8651-E87AC01C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ADE3-4AD9-4463-8DC6-745103C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A008-0904-4EF8-A388-8C2C55D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36C4-4D7A-464E-9718-FCB9379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6DDD-D488-44DC-9CD7-C7B7263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AF30-9975-476F-9B97-92FF8DC8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369C-28AA-45CC-96AD-3AC67275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99DA-B8C6-4AD4-9210-38CC5123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CA1-82B3-4CE6-A0A4-5E230B9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7F7B-8681-4F52-83A5-B32876C6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45DB-344E-4188-AF50-34C66B3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D7B88-FBE7-4B7A-BE4D-2A895A2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7827-2396-479B-83D2-D06FCAD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6442-D59F-4B4D-9947-F0A243E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2E62-88AD-4A84-AD6A-77DB40A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968E-A4BC-4982-8856-C5D2872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0CD9-52EA-4A2C-B637-FB7D741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5D34-6C6A-46D8-BD19-52E058B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F36F-4CBA-4EB1-9FC4-F151748E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DF7-EC53-49D5-B3F1-F401343D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7E7C-D252-428D-8A82-39CAABE1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191D-4F29-4E74-BCA3-61DDF4AC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22B7-7E68-443D-9D1C-90B562B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A226-F4D7-4E62-BF10-A3C48B6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CA3B-DD9D-44F7-948A-A32ED83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D0F7-4657-48A3-AF3B-689E51E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1253-205A-4FA7-9175-6568BF2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F50A-CBDD-4145-8C87-B6817D7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5442-C533-4DEC-A0EE-5532169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4A0A1-22EC-4C98-BB52-BD2FD3C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256-7DE9-4006-AF59-F491583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24DD-A833-45BC-812C-146FA47E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CCA5-44D8-4AA6-9575-E2E96144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D8D2-F3BD-4739-A9F9-D027B516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12ED0-86BA-4B7F-9EB5-666647F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C9082-C9FD-4D4E-ADDB-A26D331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8CA53-95C9-4059-80D3-120B67E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986B-3C3F-4734-A8EF-83D5DFA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0EC7-5750-48E1-81FA-494A9B4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24B0-9A48-4C79-8130-E92D67C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546F-A79E-47A5-9A63-9A07C3A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4C6-203A-4682-BC00-20F822F9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812DF-D734-4CD3-9F4F-7D390DB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D837-CDE0-4B8B-921D-12A6222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CCC68-3CF9-4821-9C2B-6F01F65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1BE1-A25A-4AD1-95B8-7FE8C3EF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02325-4719-46F7-9D37-8B741B62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802-92D4-46E9-85A3-C3BF541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1C23-529C-447E-BC7F-D28F6ED5B81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7BD0-1DD7-4FD6-842E-E22E08C45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06B-7C1D-4189-B23B-1DD5F80CD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20F-ABE9-4CBB-9D0B-B2BF89F4CDE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002-C5A3-419F-B5E3-2237F40D44A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1DA1-3B0D-4276-8354-AAA22F01CFD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D50-547F-476E-8746-C1DB336D4B6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ave powe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down power rai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nsure Reliabil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vari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tim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ntify and Repla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custom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different cell from libr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1676520" y="2298600"/>
            <a:ext cx="1263600" cy="4140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s Perl to open path and write celllist.l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and Perl work together to generate schematic with all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rt Cadence and collect info with log f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Creates secondary library of cells for tes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g ocean created with Perl which contains test information for each cel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cean runs and creates individual resul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l script checks outpu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828800" y="2489040"/>
            <a:ext cx="121932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Steve Jocke\Desktop\cell setup.bmp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solidFill>
            <a:srgbClr val="bac0cc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gure below displays a typical testing setup for a cell from the ST 120 libr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other thought to keep in mind is the timing of the waveforms of the input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257800" cy="4535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5867280" y="1676520"/>
            <a:ext cx="304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ant a process TT (typical N&amp;P) to sit on the balanced process li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se effects are amplified due to the exponential dependence on current in sub-threshol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F corner is a worst case scenario in P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lef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S corner is the worst case scenario in N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righ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20 20  18  15  24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17 21  21  15   3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20 20 20  15   49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22 19  21  13   57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22 25  29  10  3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25 25  28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25 27   27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25 29  29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 4    4   4    4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4    4   4    4     5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5    5    5     5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5    5    13   8 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3:46:49Z</dcterms:created>
  <dc:creator>Steve Jocke</dc:creator>
  <dc:description/>
  <dc:language>en-US</dc:language>
  <cp:lastModifiedBy>Steve Jocke</cp:lastModifiedBy>
  <dcterms:modified xsi:type="dcterms:W3CDTF">2007-12-04T18:03:27Z</dcterms:modified>
  <cp:revision>146</cp:revision>
  <dc:subject/>
  <dc:title>Slide 1</dc:title>
</cp:coreProperties>
</file>